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3.pct" ContentType="image/x-pict"/>
  <Override PartName="/ppt/media/image8.pct" ContentType="image/x-pict"/>
  <Override PartName="/ppt/media/image10.png" ContentType="image/png"/>
  <Override PartName="/ppt/media/image7.pct" ContentType="image/x-pict"/>
  <Override PartName="/ppt/media/image18.png" ContentType="image/png"/>
  <Override PartName="/ppt/media/image17.pct" ContentType="image/x-pict"/>
  <Override PartName="/ppt/media/image14.jpeg" ContentType="image/jpeg"/>
  <Override PartName="/ppt/media/image1.pct" ContentType="image/x-pict"/>
  <Override PartName="/ppt/media/image15.pct" ContentType="image/x-pict"/>
  <Override PartName="/ppt/media/image4.png" ContentType="image/png"/>
  <Override PartName="/ppt/media/image13.jpeg" ContentType="image/jpeg"/>
  <Override PartName="/ppt/media/image2.pct" ContentType="image/x-pict"/>
  <Override PartName="/ppt/media/image5.png" ContentType="image/png"/>
  <Override PartName="/ppt/media/image16.pct" ContentType="image/x-pict"/>
  <Override PartName="/ppt/media/image11.png" ContentType="image/png"/>
  <Override PartName="/ppt/media/image12.jpeg" ContentType="image/jpeg"/>
  <Override PartName="/ppt/media/image6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6858000" cy="5176838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9120" y="689040"/>
            <a:ext cx="4560840" cy="344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A1BA-01AB-4394-B581-0B54334A2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B523-FF09-4810-85EC-9054FBC13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9480" y="689040"/>
            <a:ext cx="4560840" cy="34416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participants’ responses to these essential questions and discuss merits of these compared to participants’ respo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D783-D5D2-4281-A169-6610B8B69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9480" y="689040"/>
            <a:ext cx="4560840" cy="34416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9EF8-2193-483D-BDEE-D35C8BD8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1200" y="1498680"/>
            <a:ext cx="583416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200" y="3118680"/>
            <a:ext cx="583416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C222-BE94-4BFB-BF54-A5704D36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1200" y="149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0640" y="149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1200" y="311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0640" y="311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466F-275B-4EA7-A101-5AC826B03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1200" y="1498680"/>
            <a:ext cx="18784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4000" y="1498680"/>
            <a:ext cx="18784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800" y="1498680"/>
            <a:ext cx="18784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1200" y="3118680"/>
            <a:ext cx="18784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4000" y="3118680"/>
            <a:ext cx="18784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800" y="3118680"/>
            <a:ext cx="18784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866A-5A3A-4613-92E5-4E6BBCDA2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1200" y="1498680"/>
            <a:ext cx="583416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D238-AA77-4C17-8193-5C45C044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1200" y="1498680"/>
            <a:ext cx="5834160" cy="3101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5FEF-ED82-4672-B953-D55ED0F9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1200" y="1498680"/>
            <a:ext cx="2846880" cy="3101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0640" y="1498680"/>
            <a:ext cx="2846880" cy="3101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0835-65C5-4568-AA55-40EB4303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54A6-A814-407E-84C6-58CAB379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1200" y="456840"/>
            <a:ext cx="583416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27C5-29DA-4F26-BECA-ED69F0CD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1200" y="149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0640" y="1498680"/>
            <a:ext cx="2846880" cy="3101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1200" y="311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3803-0CC8-4711-A97D-373CA77E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1200" y="1498680"/>
            <a:ext cx="2846880" cy="3101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0640" y="149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0640" y="311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249F-650A-4862-A760-A46F044B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1200" y="149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0640" y="149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200" y="3118680"/>
            <a:ext cx="583416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3610-8C04-439C-A45E-3CF883B2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1200" y="1498680"/>
            <a:ext cx="5834160" cy="3101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 fontScale="96000"/>
          </a:bodyPr>
          <a:p>
            <a:pPr marL="261720" indent="-26172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320" indent="-2192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880920" indent="-17676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6880" indent="-17496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578600" indent="-174960">
              <a:spcBef>
                <a:spcPts val="624"/>
              </a:spcBef>
              <a:buClr>
                <a:srgbClr val="000000"/>
              </a:buClr>
              <a:buFont typeface="Times New Roman"/>
              <a:buChar char="»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5" marL="1578600" indent="-174960">
              <a:spcBef>
                <a:spcPts val="624"/>
              </a:spcBef>
              <a:buClr>
                <a:srgbClr val="000000"/>
              </a:buClr>
              <a:buFont typeface="Times New Roman"/>
              <a:buChar char="»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6" marL="1578600" indent="-174960">
              <a:spcBef>
                <a:spcPts val="624"/>
              </a:spcBef>
              <a:buClr>
                <a:srgbClr val="000000"/>
              </a:buClr>
              <a:buFont typeface="Times New Roman"/>
              <a:buChar char="»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0840" y="4716360"/>
            <a:ext cx="1428840" cy="3412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4320" y="4716360"/>
            <a:ext cx="2166840" cy="3412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6160" y="4716360"/>
            <a:ext cx="1428840" cy="3412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E7CF-738D-4398-AD58-2519CE8EFD6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28600" y="758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nderstanding the               Big Ideas of Sc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685800" y="3273480"/>
            <a:ext cx="54864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j0250659"/>
          <p:cNvPicPr/>
          <p:nvPr/>
        </p:nvPicPr>
        <p:blipFill>
          <a:blip r:embed="rId1"/>
          <a:stretch/>
        </p:blipFill>
        <p:spPr>
          <a:xfrm>
            <a:off x="4648320" y="2664000"/>
            <a:ext cx="1523880" cy="1231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Cj03970480000[1]"/>
          <p:cNvPicPr/>
          <p:nvPr/>
        </p:nvPicPr>
        <p:blipFill>
          <a:blip r:embed="rId2"/>
          <a:stretch/>
        </p:blipFill>
        <p:spPr>
          <a:xfrm>
            <a:off x="914400" y="2511360"/>
            <a:ext cx="1481040" cy="1478160"/>
          </a:xfrm>
          <a:prstGeom prst="rect">
            <a:avLst/>
          </a:prstGeom>
          <a:ln w="0">
            <a:noFill/>
          </a:ln>
        </p:spPr>
      </p:pic>
      <p:sp>
        <p:nvSpPr>
          <p:cNvPr id="53" name="Left-Right Arrow 8"/>
          <p:cNvSpPr/>
          <p:nvPr/>
        </p:nvSpPr>
        <p:spPr>
          <a:xfrm rot="10800000">
            <a:off x="2819160" y="2892600"/>
            <a:ext cx="1447560" cy="636480"/>
          </a:xfrm>
          <a:prstGeom prst="leftRightArrow">
            <a:avLst>
              <a:gd name="adj1" fmla="val 50000"/>
              <a:gd name="adj2" fmla="val 50003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321920"/>
            <a:ext cx="5943600" cy="2127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Fish is Fish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                                by                                 Leo Lion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Scan0017"/>
          <p:cNvPicPr/>
          <p:nvPr/>
        </p:nvPicPr>
        <p:blipFill>
          <a:blip r:embed="rId1"/>
          <a:stretch/>
        </p:blipFill>
        <p:spPr>
          <a:xfrm>
            <a:off x="0" y="0"/>
            <a:ext cx="68580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Scan0016"/>
          <p:cNvPicPr/>
          <p:nvPr/>
        </p:nvPicPr>
        <p:blipFill>
          <a:blip r:embed="rId1"/>
          <a:stretch/>
        </p:blipFill>
        <p:spPr>
          <a:xfrm>
            <a:off x="0" y="0"/>
            <a:ext cx="68580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Scan0015"/>
          <p:cNvPicPr/>
          <p:nvPr/>
        </p:nvPicPr>
        <p:blipFill>
          <a:blip r:embed="rId1"/>
          <a:stretch/>
        </p:blipFill>
        <p:spPr>
          <a:xfrm>
            <a:off x="0" y="0"/>
            <a:ext cx="68580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ividual Reading 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280" y="758520"/>
            <a:ext cx="6934320" cy="16794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Number off by 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8040" indent="-24804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Read Intro on page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8040" indent="-2480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along with 3 paragraphs on page 2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8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MCj03326800000[1]"/>
          <p:cNvPicPr/>
          <p:nvPr/>
        </p:nvPicPr>
        <p:blipFill>
          <a:blip r:embed="rId1"/>
          <a:stretch/>
        </p:blipFill>
        <p:spPr>
          <a:xfrm>
            <a:off x="5410080" y="3583080"/>
            <a:ext cx="129564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04560" y="685800"/>
            <a:ext cx="5764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#1 Read: System, Order, and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(pages 2 -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68640" y="61920"/>
            <a:ext cx="6171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dividual Reading Assign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81960" y="1523880"/>
            <a:ext cx="6211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#2 Read: Evidence, Models, and Explan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age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06360" y="2362320"/>
            <a:ext cx="65311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#3 Read: Change, Constancy, and Measur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page 3 -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05280" y="3276720"/>
            <a:ext cx="606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#4 Read: Evolution and Equilibrium (page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380160" y="3962520"/>
            <a:ext cx="4773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5 Read: Form and Function (page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790560" y="1346040"/>
            <a:ext cx="48290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ahoma"/>
              </a:rPr>
              <a:t>Summarize key ide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ahoma"/>
              </a:rPr>
              <a:t>on chart pap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3733920" y="1976400"/>
            <a:ext cx="2743200" cy="223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5943600" cy="5175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Crafting a Unifying Defini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Craft a 10-12 word definition of 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your big idea of science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hat captures the key element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Be prepared to share with the whole group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3" descr="C:\Documents and Settings\mknuck\Local Settings\Temporary Internet Files\Content.IE5\SL4CNW5K\MCj03511960000[1].wmf"/>
          <p:cNvPicPr/>
          <p:nvPr/>
        </p:nvPicPr>
        <p:blipFill>
          <a:blip r:embed="rId1"/>
          <a:stretch/>
        </p:blipFill>
        <p:spPr>
          <a:xfrm>
            <a:off x="1447920" y="453960"/>
            <a:ext cx="137160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4"/>
          <p:cNvSpPr txBox="1"/>
          <p:nvPr/>
        </p:nvSpPr>
        <p:spPr>
          <a:xfrm>
            <a:off x="838080" y="758880"/>
            <a:ext cx="541044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Big Ideas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ARE Bigger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an Concepts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71360" y="114480"/>
          <a:ext cx="6329520" cy="6248160"/>
        </p:xfrm>
        <a:graphic>
          <a:graphicData uri="http://schemas.openxmlformats.org/drawingml/2006/table">
            <a:tbl>
              <a:tblPr/>
              <a:tblGrid>
                <a:gridCol w="173520"/>
                <a:gridCol w="1835640"/>
                <a:gridCol w="1976760"/>
                <a:gridCol w="2343600"/>
              </a:tblGrid>
              <a:tr h="155556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fe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ienc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sical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ienc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arth and Space Scienc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58580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55124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55556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pSp>
        <p:nvGrpSpPr>
          <p:cNvPr id="112" name="Group 23"/>
          <p:cNvGrpSpPr/>
          <p:nvPr/>
        </p:nvGrpSpPr>
        <p:grpSpPr>
          <a:xfrm>
            <a:off x="152280" y="2206800"/>
            <a:ext cx="6305760" cy="882360"/>
            <a:chOff x="152280" y="2206800"/>
            <a:chExt cx="6305760" cy="882360"/>
          </a:xfrm>
        </p:grpSpPr>
        <p:grpSp>
          <p:nvGrpSpPr>
            <p:cNvPr id="113" name="Group 35"/>
            <p:cNvGrpSpPr/>
            <p:nvPr/>
          </p:nvGrpSpPr>
          <p:grpSpPr>
            <a:xfrm>
              <a:off x="152280" y="2206800"/>
              <a:ext cx="6305760" cy="882360"/>
              <a:chOff x="152280" y="2206800"/>
              <a:chExt cx="6305760" cy="882360"/>
            </a:xfrm>
          </p:grpSpPr>
          <p:sp>
            <p:nvSpPr>
              <p:cNvPr id="114" name="Rectangle 36"/>
              <p:cNvSpPr/>
              <p:nvPr/>
            </p:nvSpPr>
            <p:spPr>
              <a:xfrm>
                <a:off x="152280" y="2273760"/>
                <a:ext cx="5706360" cy="736920"/>
              </a:xfrm>
              <a:prstGeom prst="rect">
                <a:avLst/>
              </a:pr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AutoShape 37"/>
              <p:cNvSpPr/>
              <p:nvPr/>
            </p:nvSpPr>
            <p:spPr>
              <a:xfrm rot="5400000">
                <a:off x="5687280" y="2318400"/>
                <a:ext cx="882360" cy="6588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Text Box 38"/>
            <p:cNvSpPr/>
            <p:nvPr/>
          </p:nvSpPr>
          <p:spPr>
            <a:xfrm>
              <a:off x="456840" y="2435400"/>
              <a:ext cx="5086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687240"/>
                  <a:tab algn="l" pos="1374840"/>
                  <a:tab algn="l" pos="2062080"/>
                  <a:tab algn="l" pos="2749680"/>
                  <a:tab algn="l" pos="3436920"/>
                  <a:tab algn="l" pos="4124160"/>
                  <a:tab algn="l" pos="4811760"/>
                  <a:tab algn="l" pos="5499000"/>
                  <a:tab algn="l" pos="6186600"/>
                  <a:tab algn="l" pos="6873840"/>
                  <a:tab algn="l" pos="7561440"/>
                  <a:tab algn="l" pos="8248680"/>
                  <a:tab algn="l" pos="8935920"/>
                  <a:tab algn="l" pos="9623520"/>
                  <a:tab algn="l" pos="10310760"/>
                </a:tabLst>
              </a:pPr>
              <a:r>
                <a:rPr b="0" lang="en-US" sz="1800" spc="-1" strike="noStrike">
                  <a:solidFill>
                    <a:srgbClr val="d9d9d9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d9d9d9"/>
                  </a:solidFill>
                  <a:latin typeface="Arial"/>
                </a:rPr>
                <a:t>Inquiry Proce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22"/>
          <p:cNvGrpSpPr/>
          <p:nvPr/>
        </p:nvGrpSpPr>
        <p:grpSpPr>
          <a:xfrm>
            <a:off x="152280" y="3121200"/>
            <a:ext cx="6324120" cy="882360"/>
            <a:chOff x="152280" y="3121200"/>
            <a:chExt cx="6324120" cy="882360"/>
          </a:xfrm>
        </p:grpSpPr>
        <p:grpSp>
          <p:nvGrpSpPr>
            <p:cNvPr id="118" name="Group 29"/>
            <p:cNvGrpSpPr/>
            <p:nvPr/>
          </p:nvGrpSpPr>
          <p:grpSpPr>
            <a:xfrm>
              <a:off x="152280" y="3121200"/>
              <a:ext cx="6324120" cy="882360"/>
              <a:chOff x="152280" y="3121200"/>
              <a:chExt cx="6324120" cy="882360"/>
            </a:xfrm>
          </p:grpSpPr>
          <p:sp>
            <p:nvSpPr>
              <p:cNvPr id="119" name="Rectangle 30"/>
              <p:cNvSpPr/>
              <p:nvPr/>
            </p:nvSpPr>
            <p:spPr>
              <a:xfrm>
                <a:off x="152280" y="3188160"/>
                <a:ext cx="5723640" cy="736920"/>
              </a:xfrm>
              <a:prstGeom prst="rect">
                <a:avLst/>
              </a:prstGeom>
              <a:gradFill rotWithShape="0">
                <a:gsLst>
                  <a:gs pos="0">
                    <a:srgbClr val="765e2f"/>
                  </a:gs>
                  <a:gs pos="50000">
                    <a:srgbClr val="ffcc66"/>
                  </a:gs>
                  <a:gs pos="100000">
                    <a:srgbClr val="765e2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AutoShape 31"/>
              <p:cNvSpPr/>
              <p:nvPr/>
            </p:nvSpPr>
            <p:spPr>
              <a:xfrm rot="5400000">
                <a:off x="5704920" y="3232080"/>
                <a:ext cx="882360" cy="6606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765e2f"/>
                  </a:gs>
                  <a:gs pos="50000">
                    <a:srgbClr val="ffcc66"/>
                  </a:gs>
                  <a:gs pos="100000">
                    <a:srgbClr val="765e2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Text Box 39"/>
            <p:cNvSpPr/>
            <p:nvPr/>
          </p:nvSpPr>
          <p:spPr>
            <a:xfrm>
              <a:off x="533160" y="3349800"/>
              <a:ext cx="5086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687240"/>
                  <a:tab algn="l" pos="1374840"/>
                  <a:tab algn="l" pos="2062080"/>
                  <a:tab algn="l" pos="2749680"/>
                  <a:tab algn="l" pos="3436920"/>
                  <a:tab algn="l" pos="4124160"/>
                  <a:tab algn="l" pos="4811760"/>
                  <a:tab algn="l" pos="5499000"/>
                  <a:tab algn="l" pos="6186600"/>
                  <a:tab algn="l" pos="6873840"/>
                  <a:tab algn="l" pos="7561440"/>
                  <a:tab algn="l" pos="8248680"/>
                  <a:tab algn="l" pos="8935920"/>
                  <a:tab algn="l" pos="9623520"/>
                  <a:tab algn="l" pos="10310760"/>
                </a:tabLst>
              </a:pPr>
              <a:r>
                <a:rPr b="0" lang="en-US" sz="1800" spc="-1" strike="noStrike">
                  <a:solidFill>
                    <a:srgbClr val="16165d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16165d"/>
                  </a:solidFill>
                  <a:latin typeface="Arial"/>
                </a:rPr>
                <a:t>History and Nature of Sci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Group 21"/>
          <p:cNvGrpSpPr/>
          <p:nvPr/>
        </p:nvGrpSpPr>
        <p:grpSpPr>
          <a:xfrm>
            <a:off x="152280" y="4035600"/>
            <a:ext cx="6324120" cy="914400"/>
            <a:chOff x="152280" y="4035600"/>
            <a:chExt cx="6324120" cy="914400"/>
          </a:xfrm>
        </p:grpSpPr>
        <p:grpSp>
          <p:nvGrpSpPr>
            <p:cNvPr id="123" name="Group 32"/>
            <p:cNvGrpSpPr/>
            <p:nvPr/>
          </p:nvGrpSpPr>
          <p:grpSpPr>
            <a:xfrm>
              <a:off x="152280" y="4035600"/>
              <a:ext cx="6324120" cy="914400"/>
              <a:chOff x="152280" y="4035600"/>
              <a:chExt cx="6324120" cy="914400"/>
            </a:xfrm>
          </p:grpSpPr>
          <p:sp>
            <p:nvSpPr>
              <p:cNvPr id="124" name="Rectangle 33"/>
              <p:cNvSpPr/>
              <p:nvPr/>
            </p:nvSpPr>
            <p:spPr>
              <a:xfrm>
                <a:off x="152280" y="4105080"/>
                <a:ext cx="5723640" cy="763560"/>
              </a:xfrm>
              <a:prstGeom prst="rect">
                <a:avLst/>
              </a:prstGeom>
              <a:gradFill rotWithShape="0">
                <a:gsLst>
                  <a:gs pos="0">
                    <a:srgbClr val="18185e"/>
                  </a:gs>
                  <a:gs pos="50000">
                    <a:srgbClr val="3333cc"/>
                  </a:gs>
                  <a:gs pos="100000">
                    <a:srgbClr val="18185e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AutoShape 34"/>
              <p:cNvSpPr/>
              <p:nvPr/>
            </p:nvSpPr>
            <p:spPr>
              <a:xfrm rot="5400000">
                <a:off x="5688720" y="4162320"/>
                <a:ext cx="914400" cy="6606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8185e"/>
                  </a:gs>
                  <a:gs pos="50000">
                    <a:srgbClr val="3333cc"/>
                  </a:gs>
                  <a:gs pos="100000">
                    <a:srgbClr val="18185e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Text Box 40"/>
            <p:cNvSpPr/>
            <p:nvPr/>
          </p:nvSpPr>
          <p:spPr>
            <a:xfrm>
              <a:off x="533160" y="4264200"/>
              <a:ext cx="5086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687240"/>
                  <a:tab algn="l" pos="1374840"/>
                  <a:tab algn="l" pos="2062080"/>
                  <a:tab algn="l" pos="2749680"/>
                  <a:tab algn="l" pos="3436920"/>
                  <a:tab algn="l" pos="4124160"/>
                  <a:tab algn="l" pos="4811760"/>
                  <a:tab algn="l" pos="5499000"/>
                  <a:tab algn="l" pos="6186600"/>
                  <a:tab algn="l" pos="6873840"/>
                  <a:tab algn="l" pos="7561440"/>
                  <a:tab algn="l" pos="8248680"/>
                  <a:tab algn="l" pos="8935920"/>
                  <a:tab algn="l" pos="9623520"/>
                  <a:tab algn="l" pos="103107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ersonal and Social Perspectiv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20"/>
          <p:cNvGrpSpPr/>
          <p:nvPr/>
        </p:nvGrpSpPr>
        <p:grpSpPr>
          <a:xfrm>
            <a:off x="152280" y="1292400"/>
            <a:ext cx="6324120" cy="838080"/>
            <a:chOff x="152280" y="1292400"/>
            <a:chExt cx="6324120" cy="838080"/>
          </a:xfrm>
        </p:grpSpPr>
        <p:grpSp>
          <p:nvGrpSpPr>
            <p:cNvPr id="128" name="Group 43"/>
            <p:cNvGrpSpPr/>
            <p:nvPr/>
          </p:nvGrpSpPr>
          <p:grpSpPr>
            <a:xfrm>
              <a:off x="152280" y="1292400"/>
              <a:ext cx="6324120" cy="838080"/>
              <a:chOff x="152280" y="1292400"/>
              <a:chExt cx="6324120" cy="838080"/>
            </a:xfrm>
          </p:grpSpPr>
          <p:sp>
            <p:nvSpPr>
              <p:cNvPr id="129" name="Rectangle 44"/>
              <p:cNvSpPr/>
              <p:nvPr/>
            </p:nvSpPr>
            <p:spPr>
              <a:xfrm>
                <a:off x="152280" y="1356120"/>
                <a:ext cx="5723640" cy="699840"/>
              </a:xfrm>
              <a:prstGeom prst="rect">
                <a:avLst/>
              </a:prstGeom>
              <a:gradFill rotWithShape="0">
                <a:gsLst>
                  <a:gs pos="0">
                    <a:srgbClr val="373737"/>
                  </a:gs>
                  <a:gs pos="50000">
                    <a:srgbClr val="777777"/>
                  </a:gs>
                  <a:gs pos="100000">
                    <a:srgbClr val="37373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AutoShape 45"/>
              <p:cNvSpPr/>
              <p:nvPr/>
            </p:nvSpPr>
            <p:spPr>
              <a:xfrm rot="5400000">
                <a:off x="5726880" y="1380960"/>
                <a:ext cx="838080" cy="6606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777777"/>
                  </a:gs>
                  <a:gs pos="100000">
                    <a:srgbClr val="373737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Rectangle 47"/>
            <p:cNvSpPr/>
            <p:nvPr/>
          </p:nvSpPr>
          <p:spPr>
            <a:xfrm>
              <a:off x="1528920" y="1521000"/>
              <a:ext cx="27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Science and Techn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Group 24"/>
          <p:cNvGrpSpPr/>
          <p:nvPr/>
        </p:nvGrpSpPr>
        <p:grpSpPr>
          <a:xfrm>
            <a:off x="228600" y="1216080"/>
            <a:ext cx="5715000" cy="4343400"/>
            <a:chOff x="228600" y="1216080"/>
            <a:chExt cx="5715000" cy="4343400"/>
          </a:xfrm>
        </p:grpSpPr>
        <p:sp>
          <p:nvSpPr>
            <p:cNvPr id="133" name="AutoShape 48"/>
            <p:cNvSpPr/>
            <p:nvPr/>
          </p:nvSpPr>
          <p:spPr>
            <a:xfrm>
              <a:off x="228600" y="1216080"/>
              <a:ext cx="5715000" cy="4343400"/>
            </a:xfrm>
            <a:prstGeom prst="lightningBolt">
              <a:avLst/>
            </a:prstGeom>
            <a:solidFill>
              <a:srgbClr val="cc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49"/>
            <p:cNvSpPr/>
            <p:nvPr/>
          </p:nvSpPr>
          <p:spPr>
            <a:xfrm rot="2314200">
              <a:off x="1522800" y="2765520"/>
              <a:ext cx="323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ahoma"/>
                </a:rPr>
                <a:t>BIG  IDEA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5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529920"/>
            <a:ext cx="5834160" cy="9874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utcomes of S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1200" y="1672920"/>
            <a:ext cx="5889600" cy="29271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Big Ideas of Sc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ine how the big ideas impact teaching and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BD04924_"/>
          <p:cNvPicPr/>
          <p:nvPr/>
        </p:nvPicPr>
        <p:blipFill>
          <a:blip r:embed="rId1"/>
          <a:stretch/>
        </p:blipFill>
        <p:spPr>
          <a:xfrm rot="1053000">
            <a:off x="5562360" y="377640"/>
            <a:ext cx="1136520" cy="114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52992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Key Ideas to Consi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1200" y="1521000"/>
            <a:ext cx="5889600" cy="3079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a science topic is taught is more important than the topic it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ing concepts in science is more than learning fac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5" descr="BD04924_"/>
          <p:cNvPicPr/>
          <p:nvPr/>
        </p:nvPicPr>
        <p:blipFill>
          <a:blip r:embed="rId1"/>
          <a:stretch/>
        </p:blipFill>
        <p:spPr>
          <a:xfrm rot="1053000">
            <a:off x="5382720" y="220680"/>
            <a:ext cx="1282680" cy="1295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5"/>
          <p:cNvSpPr/>
          <p:nvPr/>
        </p:nvSpPr>
        <p:spPr>
          <a:xfrm flipH="1" rot="10800000">
            <a:off x="379440" y="149040"/>
            <a:ext cx="1257480" cy="48704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tanda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1905120" y="149400"/>
            <a:ext cx="4610160" cy="2895480"/>
          </a:xfrm>
          <a:prstGeom prst="downArrowCallout">
            <a:avLst>
              <a:gd name="adj1" fmla="val 42256"/>
              <a:gd name="adj2" fmla="val 45834"/>
              <a:gd name="adj3" fmla="val 12778"/>
              <a:gd name="adj4" fmla="val 80472"/>
            </a:avLst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entify Big Ide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it that you want students to know and be able to 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t important scientific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529920"/>
            <a:ext cx="5791320" cy="7621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 Example to Consi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11200" y="1444320"/>
            <a:ext cx="5889600" cy="3352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teaching students to only name the parts of a plant teaching to a big id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ould you structure instruction on plants so that you are teaching to a big idea or ide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BD04924_"/>
          <p:cNvPicPr/>
          <p:nvPr/>
        </p:nvPicPr>
        <p:blipFill>
          <a:blip r:embed="rId1"/>
          <a:stretch/>
        </p:blipFill>
        <p:spPr>
          <a:xfrm rot="1053000">
            <a:off x="5382720" y="220680"/>
            <a:ext cx="12826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11200" y="1368360"/>
            <a:ext cx="5889600" cy="32320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Big Ideas of Scie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 these ideas support the the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are science and mathematics connec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BD04924_"/>
          <p:cNvPicPr/>
          <p:nvPr/>
        </p:nvPicPr>
        <p:blipFill>
          <a:blip r:embed="rId1"/>
          <a:stretch/>
        </p:blipFill>
        <p:spPr>
          <a:xfrm rot="1053000">
            <a:off x="5714640" y="529920"/>
            <a:ext cx="981000" cy="9907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517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Key Questions to Consi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 flipH="1" rot="10800000">
            <a:off x="379440" y="149040"/>
            <a:ext cx="1257480" cy="48704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tanda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1905120" y="225360"/>
            <a:ext cx="4610160" cy="2514600"/>
          </a:xfrm>
          <a:prstGeom prst="downArrowCallout">
            <a:avLst>
              <a:gd name="adj1" fmla="val 42256"/>
              <a:gd name="adj2" fmla="val 45834"/>
              <a:gd name="adj3" fmla="val 12778"/>
              <a:gd name="adj4" fmla="val 80472"/>
            </a:avLst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entify Big Ide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it that you want students to know and be able to 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t important scientific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7"/>
          <p:cNvSpPr/>
          <p:nvPr/>
        </p:nvSpPr>
        <p:spPr>
          <a:xfrm>
            <a:off x="1905120" y="2816280"/>
            <a:ext cx="4610160" cy="2206440"/>
          </a:xfrm>
          <a:prstGeom prst="downArrowCallout">
            <a:avLst>
              <a:gd name="adj1" fmla="val 48158"/>
              <a:gd name="adj2" fmla="val 52235"/>
              <a:gd name="adj3" fmla="val 12778"/>
              <a:gd name="adj4" fmla="val 80472"/>
            </a:avLst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entify T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ore theme and big idea. They should mutually inform one an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529920"/>
            <a:ext cx="5791320" cy="7621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 Example to Consi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22320"/>
            <a:ext cx="5889600" cy="33530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k of your choice of a big idea to teach, what theme might be appropri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oose a theme at your table to sh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5" descr="BD04924_"/>
          <p:cNvPicPr/>
          <p:nvPr/>
        </p:nvPicPr>
        <p:blipFill>
          <a:blip r:embed="rId1"/>
          <a:stretch/>
        </p:blipFill>
        <p:spPr>
          <a:xfrm rot="1053000">
            <a:off x="5382720" y="220680"/>
            <a:ext cx="12826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511200" y="1368360"/>
            <a:ext cx="5889600" cy="32320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Big Ideas of Scie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 these ideas support the the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are science and mathematics connec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BD04924_"/>
          <p:cNvPicPr/>
          <p:nvPr/>
        </p:nvPicPr>
        <p:blipFill>
          <a:blip r:embed="rId1"/>
          <a:stretch/>
        </p:blipFill>
        <p:spPr>
          <a:xfrm rot="1053000">
            <a:off x="5714640" y="529920"/>
            <a:ext cx="981000" cy="9907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517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Key Questions to Consi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indefinite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indefinite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 flipH="1" rot="10800000">
            <a:off x="379440" y="149040"/>
            <a:ext cx="1257480" cy="48704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tanda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3"/>
          <p:cNvSpPr/>
          <p:nvPr/>
        </p:nvSpPr>
        <p:spPr>
          <a:xfrm>
            <a:off x="1905120" y="149400"/>
            <a:ext cx="4610160" cy="1828800"/>
          </a:xfrm>
          <a:prstGeom prst="downArrowCallout">
            <a:avLst>
              <a:gd name="adj1" fmla="val 58102"/>
              <a:gd name="adj2" fmla="val 63022"/>
              <a:gd name="adj3" fmla="val 12778"/>
              <a:gd name="adj4" fmla="val 80472"/>
            </a:avLst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ep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dentify Big Ide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is it that you want students to know and be able to d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ortant scientific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1828800" y="2054160"/>
            <a:ext cx="4610160" cy="1524240"/>
          </a:xfrm>
          <a:prstGeom prst="downArrowCallout">
            <a:avLst>
              <a:gd name="adj1" fmla="val 69711"/>
              <a:gd name="adj2" fmla="val 75614"/>
              <a:gd name="adj3" fmla="val 12778"/>
              <a:gd name="adj4" fmla="val 80472"/>
            </a:avLst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ep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dentify Th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loring theme and big idea from science should mutually inform one an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1828800" y="3654360"/>
            <a:ext cx="4610160" cy="14032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nect Mathematics and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 flipH="1" rot="10800000">
            <a:off x="227160" y="149040"/>
            <a:ext cx="1104840" cy="48704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tanda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1523880" y="149400"/>
            <a:ext cx="5105520" cy="4876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nect Mathematics                           and Sc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2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Select an application of a mathematical concept that can be integrated into this science learning exper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2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Content must be important to the study of mathema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2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Examples: estimation, number sense, operations, fractions and decimals, geometry, measurement, data analysis, statistics, probability, patterns, functions, and 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2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378000"/>
            <a:ext cx="5791320" cy="761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 Example to Consi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368000"/>
            <a:ext cx="5889600" cy="3654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your choice of a big idea and theme to teach, what might be a powerful connection to mathematic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oose a mathematics focus at your table to sh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5" descr="BD04924_"/>
          <p:cNvPicPr/>
          <p:nvPr/>
        </p:nvPicPr>
        <p:blipFill>
          <a:blip r:embed="rId1"/>
          <a:stretch/>
        </p:blipFill>
        <p:spPr>
          <a:xfrm rot="1053000">
            <a:off x="5382720" y="220680"/>
            <a:ext cx="12826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62120" y="1521000"/>
            <a:ext cx="5867280" cy="761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are the Big Ideas of Scie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BD04924_"/>
          <p:cNvPicPr/>
          <p:nvPr/>
        </p:nvPicPr>
        <p:blipFill>
          <a:blip r:embed="rId1"/>
          <a:stretch/>
        </p:blipFill>
        <p:spPr>
          <a:xfrm rot="1053000">
            <a:off x="5749560" y="655200"/>
            <a:ext cx="981000" cy="9907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304560" y="-360"/>
            <a:ext cx="6095880" cy="9874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Key Questions to Consi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1066680" y="3578400"/>
            <a:ext cx="4876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do these ide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he the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152280" y="235908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are science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s connec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BD04924_"/>
          <p:cNvPicPr/>
          <p:nvPr/>
        </p:nvPicPr>
        <p:blipFill>
          <a:blip r:embed="rId2"/>
          <a:stretch/>
        </p:blipFill>
        <p:spPr>
          <a:xfrm rot="19207200">
            <a:off x="50760" y="634680"/>
            <a:ext cx="981000" cy="990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6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37800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1" lang="en-US" sz="4400" spc="-1" strike="noStrike">
                <a:solidFill>
                  <a:srgbClr val="262699"/>
                </a:solidFill>
                <a:latin typeface="Tahoma"/>
              </a:rPr>
              <a:t>Synthesiz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Diagram 5" descr=""/>
          <p:cNvPicPr/>
          <p:nvPr/>
        </p:nvPicPr>
        <p:blipFill>
          <a:blip r:embed="rId1"/>
          <a:stretch/>
        </p:blipFill>
        <p:spPr>
          <a:xfrm>
            <a:off x="907920" y="1359000"/>
            <a:ext cx="481032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529920"/>
            <a:ext cx="5834160" cy="9874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utcomes of S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11200" y="1672920"/>
            <a:ext cx="5889600" cy="29271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Big Ideas of Sc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ine how the big ideas impact teaching and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5" descr="BD04924_"/>
          <p:cNvPicPr/>
          <p:nvPr/>
        </p:nvPicPr>
        <p:blipFill>
          <a:blip r:embed="rId1"/>
          <a:stretch/>
        </p:blipFill>
        <p:spPr>
          <a:xfrm rot="1053000">
            <a:off x="5562360" y="377640"/>
            <a:ext cx="113652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4"/>
          <p:cNvGrpSpPr/>
          <p:nvPr/>
        </p:nvGrpSpPr>
        <p:grpSpPr>
          <a:xfrm>
            <a:off x="4724280" y="3197160"/>
            <a:ext cx="1752480" cy="1523880"/>
            <a:chOff x="4724280" y="3197160"/>
            <a:chExt cx="1752480" cy="1523880"/>
          </a:xfrm>
        </p:grpSpPr>
        <p:sp>
          <p:nvSpPr>
            <p:cNvPr id="178" name="Freeform 5"/>
            <p:cNvSpPr/>
            <p:nvPr/>
          </p:nvSpPr>
          <p:spPr>
            <a:xfrm>
              <a:off x="5249520" y="3472560"/>
              <a:ext cx="708120" cy="977040"/>
            </a:xfrm>
            <a:prstGeom prst="pie">
              <a:avLst/>
            </a:prstGeom>
            <a:solidFill>
              <a:srgbClr val="000099"/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Freeform 6"/>
            <p:cNvSpPr/>
            <p:nvPr/>
          </p:nvSpPr>
          <p:spPr>
            <a:xfrm>
              <a:off x="5289120" y="3512160"/>
              <a:ext cx="629280" cy="683280"/>
            </a:xfrm>
            <a:prstGeom prst="pie">
              <a:avLst/>
            </a:prstGeom>
            <a:solidFill>
              <a:srgbClr val="0000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Freeform 7"/>
            <p:cNvSpPr/>
            <p:nvPr/>
          </p:nvSpPr>
          <p:spPr>
            <a:xfrm>
              <a:off x="5518800" y="4245840"/>
              <a:ext cx="201600" cy="155880"/>
            </a:xfrm>
            <a:prstGeom prst="pie">
              <a:avLst/>
            </a:prstGeom>
            <a:solidFill>
              <a:srgbClr val="0000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Freeform 8"/>
            <p:cNvSpPr/>
            <p:nvPr/>
          </p:nvSpPr>
          <p:spPr>
            <a:xfrm>
              <a:off x="4724280" y="3197160"/>
              <a:ext cx="1752480" cy="1523880"/>
            </a:xfrm>
            <a:prstGeom prst="pie">
              <a:avLst/>
            </a:prstGeom>
            <a:solidFill>
              <a:srgbClr val="0000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Freeform 9"/>
            <p:cNvSpPr/>
            <p:nvPr/>
          </p:nvSpPr>
          <p:spPr>
            <a:xfrm>
              <a:off x="4773960" y="3222360"/>
              <a:ext cx="1658880" cy="14630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WordArt 11"/>
          <p:cNvSpPr txBox="1"/>
          <p:nvPr/>
        </p:nvSpPr>
        <p:spPr>
          <a:xfrm>
            <a:off x="838080" y="987480"/>
            <a:ext cx="5257800" cy="304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Tahoma"/>
              </a:rPr>
              <a:t>QUESTIONS</a:t>
            </a:r>
            <a:endParaRPr b="1" i="1" lang="en-US" sz="4000" spc="1" strike="noStrike">
              <a:ln w="936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Tahoma"/>
              <a:ea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 flipH="1">
            <a:off x="0" y="0"/>
            <a:ext cx="7120080" cy="5175360"/>
          </a:xfrm>
          <a:prstGeom prst="rect">
            <a:avLst/>
          </a:prstGeom>
          <a:ln w="0">
            <a:noFill/>
          </a:ln>
        </p:spPr>
      </p:pic>
      <p:pic>
        <p:nvPicPr>
          <p:cNvPr id="66" name="Rectangle 1" descr=""/>
          <p:cNvPicPr/>
          <p:nvPr/>
        </p:nvPicPr>
        <p:blipFill>
          <a:blip r:embed="rId2"/>
          <a:stretch/>
        </p:blipFill>
        <p:spPr>
          <a:xfrm>
            <a:off x="-6480" y="-6480"/>
            <a:ext cx="7175520" cy="9334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0" y="2438280"/>
            <a:ext cx="70866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What questions could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investigated about the box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380880" y="3505320"/>
            <a:ext cx="64771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What is your plan for investig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457200" y="4114800"/>
            <a:ext cx="6400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What data do you need to collec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9400"/>
            <a:ext cx="5943600" cy="17524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mall Group Process:              Understanding the                  Big Ideas of Sc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2130120"/>
            <a:ext cx="6248160" cy="24699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How do students learn scie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How would you describe a classroom where students are actively engaged in learning scie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7" descr="MCBS00297_0000[1]"/>
          <p:cNvPicPr/>
          <p:nvPr/>
        </p:nvPicPr>
        <p:blipFill>
          <a:blip r:embed="rId1"/>
          <a:stretch/>
        </p:blipFill>
        <p:spPr>
          <a:xfrm flipH="1">
            <a:off x="5486400" y="3882960"/>
            <a:ext cx="137160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1328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cience Classro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5"/>
          <p:cNvSpPr/>
          <p:nvPr/>
        </p:nvSpPr>
        <p:spPr>
          <a:xfrm>
            <a:off x="685800" y="1139760"/>
            <a:ext cx="17049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9933"/>
                </a:solidFill>
                <a:latin typeface="Comic Sans MS"/>
              </a:rPr>
              <a:t>  </a:t>
            </a:r>
            <a:r>
              <a:rPr b="1" lang="en-US" sz="2100" spc="-1" strike="noStrike">
                <a:solidFill>
                  <a:srgbClr val="ff9933"/>
                </a:solidFill>
                <a:latin typeface="Comic Sans MS"/>
              </a:rPr>
              <a:t>Look Li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2590920" y="1139760"/>
            <a:ext cx="16952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100" spc="-1" strike="noStrike">
                <a:solidFill>
                  <a:srgbClr val="ff9933"/>
                </a:solidFill>
                <a:latin typeface="Comic Sans MS"/>
              </a:rPr>
              <a:t>Sound Li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7"/>
          <p:cNvSpPr/>
          <p:nvPr/>
        </p:nvSpPr>
        <p:spPr>
          <a:xfrm>
            <a:off x="4495680" y="1139760"/>
            <a:ext cx="17240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9933"/>
                </a:solidFill>
                <a:latin typeface="Comic Sans MS"/>
              </a:rPr>
              <a:t>Feel Li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5800" y="1596960"/>
          <a:ext cx="5429160" cy="3124440"/>
        </p:xfrm>
        <a:graphic>
          <a:graphicData uri="http://schemas.openxmlformats.org/drawingml/2006/table">
            <a:tbl>
              <a:tblPr/>
              <a:tblGrid>
                <a:gridCol w="1809720"/>
                <a:gridCol w="1809720"/>
                <a:gridCol w="1809720"/>
              </a:tblGrid>
              <a:tr h="625680"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Picture 2" descr="C:\Documents and Settings\mknuck\Local Settings\Temporary Internet Files\Content.IE5\VFWXN81O\MCj04136180000[1].wmf"/>
          <p:cNvPicPr/>
          <p:nvPr/>
        </p:nvPicPr>
        <p:blipFill>
          <a:blip r:embed="rId1"/>
          <a:stretch/>
        </p:blipFill>
        <p:spPr>
          <a:xfrm>
            <a:off x="152280" y="149400"/>
            <a:ext cx="1238400" cy="954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knuck\Local Settings\Temporary Internet Files\Content.IE5\VFWXN81O\MCj02381920000[1].wmf"/>
          <p:cNvPicPr/>
          <p:nvPr/>
        </p:nvPicPr>
        <p:blipFill>
          <a:blip r:embed="rId2"/>
          <a:stretch/>
        </p:blipFill>
        <p:spPr>
          <a:xfrm>
            <a:off x="5867280" y="149400"/>
            <a:ext cx="722520" cy="1106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28240" y="37800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 fontScale="94000"/>
          </a:bodyPr>
          <a:p>
            <a:pPr marL="2563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tudents learn science by 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>
              <a:lnSpc>
                <a:spcPct val="100000"/>
              </a:lnSpc>
              <a:spcBef>
                <a:spcPts val="850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Tahoma"/>
              </a:rPr>
              <a:t>inquir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>
              <a:lnSpc>
                <a:spcPct val="100000"/>
              </a:lnSpc>
              <a:spcBef>
                <a:spcPts val="850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Tahoma"/>
              </a:rPr>
              <a:t>asking ques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>
              <a:lnSpc>
                <a:spcPct val="100000"/>
              </a:lnSpc>
              <a:spcBef>
                <a:spcPts val="850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Tahoma"/>
              </a:rPr>
              <a:t>developing model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>
              <a:lnSpc>
                <a:spcPct val="100000"/>
              </a:lnSpc>
              <a:spcBef>
                <a:spcPts val="850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Tahoma"/>
              </a:rPr>
              <a:t>seeking and describing eviden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>
              <a:lnSpc>
                <a:spcPct val="100000"/>
              </a:lnSpc>
              <a:spcBef>
                <a:spcPts val="850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Tahoma"/>
              </a:rPr>
              <a:t>developing scientific argume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0"/>
            <a:ext cx="6858000" cy="225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MPj03988190000[1]"/>
          <p:cNvPicPr/>
          <p:nvPr/>
        </p:nvPicPr>
        <p:blipFill>
          <a:blip r:embed="rId1"/>
          <a:stretch/>
        </p:blipFill>
        <p:spPr>
          <a:xfrm>
            <a:off x="4800600" y="1216080"/>
            <a:ext cx="129528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457200" y="4083120"/>
            <a:ext cx="611496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books.nap.edu/catalog/9853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nap.edu/books/0309089492/htm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" descr="How Students Learn Mathematics"/>
          <p:cNvPicPr/>
          <p:nvPr/>
        </p:nvPicPr>
        <p:blipFill>
          <a:blip r:embed="rId1"/>
          <a:stretch/>
        </p:blipFill>
        <p:spPr>
          <a:xfrm>
            <a:off x="4229280" y="1552680"/>
            <a:ext cx="1517400" cy="2184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ow People Learn"/>
          <p:cNvPicPr/>
          <p:nvPr/>
        </p:nvPicPr>
        <p:blipFill>
          <a:blip r:embed="rId2"/>
          <a:stretch/>
        </p:blipFill>
        <p:spPr>
          <a:xfrm>
            <a:off x="1200240" y="1552680"/>
            <a:ext cx="1560600" cy="21841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571680" y="230040"/>
            <a:ext cx="6286320" cy="10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3300" spc="-1" strike="noStrike">
                <a:solidFill>
                  <a:srgbClr val="990000"/>
                </a:solidFill>
                <a:latin typeface="Arial"/>
              </a:rPr>
              <a:t>We Know More About How        Students Lear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628560" y="574560"/>
            <a:ext cx="622944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27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Three Principles of Learn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80880" y="1444680"/>
            <a:ext cx="6153120" cy="25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Principle #1:  Teachers must Engage Students Preconcep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Principle #2: Understanding Requires Factual  Knowledge and Conceptual Framework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Principle #3: Meta-cognitive Approach Enables Student Self-Monitori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14:43:28Z</dcterms:created>
  <dc:creator>Mary Knuck</dc:creator>
  <dc:description/>
  <dc:language>en-US</dc:language>
  <cp:lastModifiedBy>Jennifer Robinson</cp:lastModifiedBy>
  <dcterms:modified xsi:type="dcterms:W3CDTF">2009-06-04T05:26:24Z</dcterms:modified>
  <cp:revision>97</cp:revision>
  <dc:subject/>
  <dc:title>PowerPoint Presentation</dc:title>
</cp:coreProperties>
</file>